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C51-E5BE-4372-A625-C41A0CE8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DD3-95D6-4EFB-B6E4-FC867392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104-4ECB-4955-BFE5-17F09365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3D8-0921-4D26-802B-553FF322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529-9E0A-4552-9962-EF32925A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788-6BFB-4DA8-A8B2-18899FDE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871-F071-4801-B0D2-68C43687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F92-E093-4278-B043-28812C26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74B-6473-4D33-A06C-0E23230F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97B-F9A2-4E71-8B48-D28F10FB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EFD-8517-4074-87CE-60080469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738-4CE5-4A2A-8DA7-2453DCFF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2CD1-CA27-4C81-ABEF-A50A50369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6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66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industrial waste can affect food webs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7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2133720" y="1523880"/>
            <a:ext cx="4619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1028"/>
          <p:cNvSpPr txBox="1"/>
          <p:nvPr/>
        </p:nvSpPr>
        <p:spPr>
          <a:xfrm>
            <a:off x="3419640" y="26028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60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Text Box 1030"/>
          <p:cNvSpPr/>
          <p:nvPr/>
        </p:nvSpPr>
        <p:spPr>
          <a:xfrm>
            <a:off x="-21960" y="2327400"/>
            <a:ext cx="982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ir 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2920" y="2936880"/>
            <a:ext cx="941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ood webs allow us to study environmental chang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2403360"/>
            <a:ext cx="8674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ffff66"/>
                </a:solidFill>
                <a:miter/>
              </a:ln>
              <a:solidFill>
                <a:srgbClr val="ffff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6480" y="2895480"/>
            <a:ext cx="8956080" cy="3751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/>
  <dc:language>en-US</dc:language>
  <cp:lastModifiedBy>Lyn Clarkson</cp:lastModifiedBy>
  <dcterms:modified xsi:type="dcterms:W3CDTF">2009-08-25T23:59:23Z</dcterms:modified>
  <cp:revision>36</cp:revision>
  <dc:subject/>
  <dc:title>PowerPoint Presentation</dc:title>
</cp:coreProperties>
</file>